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88244"/>
        <c:axId val="89168036"/>
      </c:barChart>
      <c:catAx>
        <c:axId val="22588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68036"/>
        <c:crosses val="autoZero"/>
        <c:auto val="1"/>
        <c:lblAlgn val="ctr"/>
        <c:lblOffset val="100"/>
        <c:noMultiLvlLbl val="0"/>
      </c:catAx>
      <c:valAx>
        <c:axId val="891680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88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76A-4CEC-4653-8580-5AC38D86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5D8-383E-411F-89A1-98AA9EAA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82C-6C37-4217-AAF0-E35FA170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106-453C-41B2-A3E8-83B984FD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280-3F4A-4FBF-850D-826EDA2D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712-BC82-4ACA-803D-B29AD95A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D2E-D2C9-410C-8AAC-3B0B66A3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0AF-673F-4CB3-BA4C-48AF3EFD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008-9AED-43AD-82B1-6F3219CE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904-CFFA-4656-B379-177D5C6D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DC4-68C8-42F0-AF8B-088FFF1D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4D1-8D0C-4F3F-B3D1-DFEDA585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E04A4-FED3-4784-8431-6FDF351DAD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